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271440" y="3753000"/>
            <a:ext cx="3398760" cy="74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71440" y="3044880"/>
            <a:ext cx="3409920" cy="45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1440" y="2328840"/>
            <a:ext cx="3421080" cy="45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19080" y="1249200"/>
            <a:ext cx="7272360" cy="441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95120" y="201600"/>
            <a:ext cx="6233040" cy="446040"/>
            <a:chOff x="195120" y="201600"/>
            <a:chExt cx="6233040" cy="4460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344600" y="212400"/>
              <a:ext cx="5083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ORING A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ADRATIC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NOM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7000" y="1271520"/>
            <a:ext cx="72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o factor quadratic polynomials whose leading factor is no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0040" y="2297160"/>
            <a:ext cx="349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1840" y="3257640"/>
            <a:ext cx="45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a50a1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28257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e000a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a50a1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e000a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a50a1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e000a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600" y="2363760"/>
            <a:ext cx="33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factors of </a:t>
            </a:r>
            <a:r>
              <a:rPr b="0" i="1" lang="en-US" sz="2000" spc="-1" strike="noStrike">
                <a:solidFill>
                  <a:srgbClr val="0a50a1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a50a1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a50a1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03920" y="25876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a50a1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3280" y="3014640"/>
            <a:ext cx="349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5880" y="407844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000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e000a"/>
                </a:solidFill>
                <a:latin typeface="Times New Roman"/>
              </a:rPr>
              <a:t>p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9600" y="3065400"/>
            <a:ext cx="33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factors of 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78360" y="22780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28257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a50a1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e000a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e000a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a50a1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3920" y="3710160"/>
            <a:ext cx="3498840" cy="84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600" y="3754440"/>
            <a:ext cx="329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m of the outer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products (</a:t>
            </a:r>
            <a:r>
              <a:rPr b="0" i="1" lang="en-US" sz="2000" spc="-1" strike="noStrike">
                <a:solidFill>
                  <a:srgbClr val="0a50a1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a50a1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2000" spc="-1" strike="noStrike">
                <a:solidFill>
                  <a:srgbClr val="028257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7840" y="2830680"/>
            <a:ext cx="658800" cy="528480"/>
          </a:xfrm>
          <a:custGeom>
            <a:avLst/>
            <a:gdLst/>
            <a:ahLst/>
            <a:rect l="l" t="t" r="r" b="b"/>
            <a:pathLst>
              <a:path w="938" h="333">
                <a:moveTo>
                  <a:pt x="0" y="333"/>
                </a:moveTo>
                <a:cubicBezTo>
                  <a:pt x="37" y="257"/>
                  <a:pt x="74" y="182"/>
                  <a:pt x="146" y="130"/>
                </a:cubicBezTo>
                <a:cubicBezTo>
                  <a:pt x="217" y="78"/>
                  <a:pt x="297" y="41"/>
                  <a:pt x="429" y="21"/>
                </a:cubicBezTo>
                <a:cubicBezTo>
                  <a:pt x="560" y="0"/>
                  <a:pt x="749" y="3"/>
                  <a:pt x="938" y="6"/>
                </a:cubicBezTo>
              </a:path>
            </a:pathLst>
          </a:custGeom>
          <a:noFill/>
          <a:ln w="19080">
            <a:solidFill>
              <a:srgbClr val="0a50a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91240" y="2955960"/>
            <a:ext cx="831960" cy="393840"/>
          </a:xfrm>
          <a:prstGeom prst="line">
            <a:avLst/>
          </a:prstGeom>
          <a:ln w="19080">
            <a:solidFill>
              <a:srgbClr val="0a5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88160" y="2838600"/>
            <a:ext cx="1743120" cy="522000"/>
          </a:xfrm>
          <a:custGeom>
            <a:avLst/>
            <a:gdLst/>
            <a:ahLst/>
            <a:rect l="l" t="t" r="r" b="b"/>
            <a:pathLst>
              <a:path w="480" h="315">
                <a:moveTo>
                  <a:pt x="0" y="2"/>
                </a:moveTo>
                <a:cubicBezTo>
                  <a:pt x="102" y="1"/>
                  <a:pt x="204" y="0"/>
                  <a:pt x="284" y="53"/>
                </a:cubicBezTo>
                <a:cubicBezTo>
                  <a:pt x="364" y="105"/>
                  <a:pt x="422" y="210"/>
                  <a:pt x="480" y="315"/>
                </a:cubicBezTo>
              </a:path>
            </a:pathLst>
          </a:custGeom>
          <a:noFill/>
          <a:ln w="19080">
            <a:solidFill>
              <a:srgbClr val="0a50a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37320" y="3719520"/>
            <a:ext cx="174600" cy="600120"/>
          </a:xfrm>
          <a:custGeom>
            <a:avLst/>
            <a:gdLst/>
            <a:ahLst/>
            <a:rect l="l" t="t" r="r" b="b"/>
            <a:pathLst>
              <a:path w="110" h="378">
                <a:moveTo>
                  <a:pt x="22" y="0"/>
                </a:moveTo>
                <a:cubicBezTo>
                  <a:pt x="11" y="110"/>
                  <a:pt x="0" y="220"/>
                  <a:pt x="15" y="283"/>
                </a:cubicBezTo>
                <a:cubicBezTo>
                  <a:pt x="29" y="346"/>
                  <a:pt x="69" y="362"/>
                  <a:pt x="110" y="378"/>
                </a:cubicBezTo>
              </a:path>
            </a:pathLst>
          </a:custGeom>
          <a:noFill/>
          <a:ln w="19080">
            <a:solidFill>
              <a:srgbClr val="fe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6840" y="3811680"/>
            <a:ext cx="1523880" cy="571320"/>
          </a:xfrm>
          <a:custGeom>
            <a:avLst/>
            <a:gdLst/>
            <a:ahLst/>
            <a:rect l="l" t="t" r="r" b="b"/>
            <a:pathLst>
              <a:path w="960" h="360">
                <a:moveTo>
                  <a:pt x="0" y="328"/>
                </a:moveTo>
                <a:cubicBezTo>
                  <a:pt x="280" y="344"/>
                  <a:pt x="560" y="360"/>
                  <a:pt x="720" y="306"/>
                </a:cubicBezTo>
                <a:cubicBezTo>
                  <a:pt x="879" y="251"/>
                  <a:pt x="919" y="125"/>
                  <a:pt x="960" y="0"/>
                </a:cubicBezTo>
              </a:path>
            </a:pathLst>
          </a:custGeom>
          <a:noFill/>
          <a:ln w="19080">
            <a:solidFill>
              <a:srgbClr val="fe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0080" y="3741840"/>
            <a:ext cx="497160" cy="449280"/>
          </a:xfrm>
          <a:custGeom>
            <a:avLst/>
            <a:gdLst/>
            <a:ahLst/>
            <a:rect l="l" t="t" r="r" b="b"/>
            <a:pathLst>
              <a:path w="284" h="254">
                <a:moveTo>
                  <a:pt x="0" y="254"/>
                </a:moveTo>
                <a:cubicBezTo>
                  <a:pt x="41" y="206"/>
                  <a:pt x="83" y="158"/>
                  <a:pt x="131" y="116"/>
                </a:cubicBezTo>
                <a:cubicBezTo>
                  <a:pt x="178" y="73"/>
                  <a:pt x="231" y="36"/>
                  <a:pt x="284" y="0"/>
                </a:cubicBezTo>
              </a:path>
            </a:pathLst>
          </a:custGeom>
          <a:noFill/>
          <a:ln w="19080">
            <a:solidFill>
              <a:srgbClr val="fe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26040" y="2506680"/>
            <a:ext cx="1593720" cy="853920"/>
          </a:xfrm>
          <a:custGeom>
            <a:avLst/>
            <a:gdLst/>
            <a:ahLst/>
            <a:rect l="l" t="t" r="r" b="b"/>
            <a:pathLst>
              <a:path w="1004" h="538">
                <a:moveTo>
                  <a:pt x="0" y="538"/>
                </a:moveTo>
                <a:cubicBezTo>
                  <a:pt x="108" y="481"/>
                  <a:pt x="487" y="285"/>
                  <a:pt x="655" y="196"/>
                </a:cubicBezTo>
                <a:cubicBezTo>
                  <a:pt x="822" y="106"/>
                  <a:pt x="931" y="40"/>
                  <a:pt x="1004" y="0"/>
                </a:cubicBezTo>
              </a:path>
            </a:pathLst>
          </a:custGeom>
          <a:noFill/>
          <a:ln w="19080">
            <a:solidFill>
              <a:srgbClr val="03bb7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93040" y="2657520"/>
            <a:ext cx="671400" cy="738000"/>
          </a:xfrm>
          <a:custGeom>
            <a:avLst/>
            <a:gdLst/>
            <a:ahLst/>
            <a:rect l="l" t="t" r="r" b="b"/>
            <a:pathLst>
              <a:path w="423" h="465">
                <a:moveTo>
                  <a:pt x="423" y="0"/>
                </a:moveTo>
                <a:cubicBezTo>
                  <a:pt x="382" y="37"/>
                  <a:pt x="237" y="175"/>
                  <a:pt x="182" y="225"/>
                </a:cubicBezTo>
                <a:cubicBezTo>
                  <a:pt x="126" y="274"/>
                  <a:pt x="117" y="258"/>
                  <a:pt x="87" y="298"/>
                </a:cubicBezTo>
                <a:cubicBezTo>
                  <a:pt x="56" y="337"/>
                  <a:pt x="18" y="430"/>
                  <a:pt x="0" y="465"/>
                </a:cubicBezTo>
              </a:path>
            </a:pathLst>
          </a:custGeom>
          <a:noFill/>
          <a:ln w="28440">
            <a:solidFill>
              <a:srgbClr val="0a50a1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0560" y="2216160"/>
            <a:ext cx="1011240" cy="1122480"/>
          </a:xfrm>
          <a:custGeom>
            <a:avLst/>
            <a:gdLst/>
            <a:ahLst/>
            <a:rect l="l" t="t" r="r" b="b"/>
            <a:pathLst>
              <a:path w="637" h="707">
                <a:moveTo>
                  <a:pt x="0" y="131"/>
                </a:moveTo>
                <a:cubicBezTo>
                  <a:pt x="90" y="125"/>
                  <a:pt x="453" y="0"/>
                  <a:pt x="545" y="96"/>
                </a:cubicBezTo>
                <a:cubicBezTo>
                  <a:pt x="637" y="192"/>
                  <a:pt x="550" y="580"/>
                  <a:pt x="552" y="707"/>
                </a:cubicBezTo>
              </a:path>
            </a:pathLst>
          </a:custGeom>
          <a:noFill/>
          <a:ln w="28440">
            <a:solidFill>
              <a:srgbClr val="fe000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308000" y="2701800"/>
            <a:ext cx="623880" cy="703440"/>
          </a:xfrm>
          <a:custGeom>
            <a:avLst/>
            <a:gdLst/>
            <a:ahLst/>
            <a:rect l="l" t="t" r="r" b="b"/>
            <a:pathLst>
              <a:path w="167" h="712">
                <a:moveTo>
                  <a:pt x="0" y="712"/>
                </a:moveTo>
                <a:cubicBezTo>
                  <a:pt x="51" y="506"/>
                  <a:pt x="103" y="300"/>
                  <a:pt x="131" y="182"/>
                </a:cubicBezTo>
                <a:cubicBezTo>
                  <a:pt x="158" y="63"/>
                  <a:pt x="162" y="31"/>
                  <a:pt x="167" y="0"/>
                </a:cubicBezTo>
              </a:path>
            </a:pathLst>
          </a:custGeom>
          <a:noFill/>
          <a:ln w="28440">
            <a:solidFill>
              <a:srgbClr val="fe000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13720" y="2703600"/>
            <a:ext cx="403200" cy="714240"/>
          </a:xfrm>
          <a:custGeom>
            <a:avLst/>
            <a:gdLst/>
            <a:ahLst/>
            <a:rect l="l" t="t" r="r" b="b"/>
            <a:pathLst>
              <a:path w="254" h="450">
                <a:moveTo>
                  <a:pt x="254" y="0"/>
                </a:moveTo>
                <a:cubicBezTo>
                  <a:pt x="238" y="37"/>
                  <a:pt x="201" y="157"/>
                  <a:pt x="159" y="232"/>
                </a:cubicBezTo>
                <a:cubicBezTo>
                  <a:pt x="116" y="307"/>
                  <a:pt x="33" y="404"/>
                  <a:pt x="0" y="450"/>
                </a:cubicBezTo>
              </a:path>
            </a:pathLst>
          </a:custGeom>
          <a:noFill/>
          <a:ln w="28440">
            <a:solidFill>
              <a:srgbClr val="0a50a1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95120" y="201600"/>
            <a:ext cx="6233040" cy="446040"/>
            <a:chOff x="195120" y="201600"/>
            <a:chExt cx="6233040" cy="44604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44600" y="212400"/>
              <a:ext cx="5083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ORING A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ADRATIC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NOM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24160" y="1289160"/>
            <a:ext cx="1531800" cy="46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0560" y="3753000"/>
            <a:ext cx="1700280" cy="398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2960" y="3044880"/>
            <a:ext cx="94788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1200" y="2351160"/>
            <a:ext cx="107964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93720" y="2197080"/>
            <a:ext cx="13194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360" y="236376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46360" y="3014640"/>
            <a:ext cx="1166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360" y="306540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a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e000a"/>
                </a:solidFill>
                <a:latin typeface="Times New Roman"/>
              </a:rPr>
              <a:t>p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4080" y="3710160"/>
            <a:ext cx="1706760" cy="52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34920" y="3754440"/>
            <a:ext cx="18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fe000a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e000a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00400" y="3095640"/>
            <a:ext cx="46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e000a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a50a1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e000a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800" spc="-1" strike="noStrike">
                <a:solidFill>
                  <a:srgbClr val="0a50a1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e000a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01040" y="2471760"/>
            <a:ext cx="103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6 = 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15880" y="391644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000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e000a"/>
                </a:solidFill>
                <a:latin typeface="Times New Roman"/>
              </a:rPr>
              <a:t>p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72960" y="2162160"/>
            <a:ext cx="18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7840" y="2668680"/>
            <a:ext cx="658800" cy="528480"/>
          </a:xfrm>
          <a:custGeom>
            <a:avLst/>
            <a:gdLst/>
            <a:ahLst/>
            <a:rect l="l" t="t" r="r" b="b"/>
            <a:pathLst>
              <a:path w="938" h="333">
                <a:moveTo>
                  <a:pt x="0" y="333"/>
                </a:moveTo>
                <a:cubicBezTo>
                  <a:pt x="37" y="257"/>
                  <a:pt x="74" y="182"/>
                  <a:pt x="146" y="130"/>
                </a:cubicBezTo>
                <a:cubicBezTo>
                  <a:pt x="217" y="78"/>
                  <a:pt x="297" y="41"/>
                  <a:pt x="429" y="21"/>
                </a:cubicBezTo>
                <a:cubicBezTo>
                  <a:pt x="560" y="0"/>
                  <a:pt x="749" y="3"/>
                  <a:pt x="938" y="6"/>
                </a:cubicBezTo>
              </a:path>
            </a:pathLst>
          </a:custGeom>
          <a:noFill/>
          <a:ln w="19080">
            <a:solidFill>
              <a:srgbClr val="0a50a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06920" y="2782800"/>
            <a:ext cx="1016280" cy="405000"/>
          </a:xfrm>
          <a:prstGeom prst="line">
            <a:avLst/>
          </a:prstGeom>
          <a:ln w="19080">
            <a:solidFill>
              <a:srgbClr val="0a5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88160" y="2676600"/>
            <a:ext cx="1743120" cy="522360"/>
          </a:xfrm>
          <a:custGeom>
            <a:avLst/>
            <a:gdLst/>
            <a:ahLst/>
            <a:rect l="l" t="t" r="r" b="b"/>
            <a:pathLst>
              <a:path w="480" h="315">
                <a:moveTo>
                  <a:pt x="0" y="2"/>
                </a:moveTo>
                <a:cubicBezTo>
                  <a:pt x="102" y="1"/>
                  <a:pt x="204" y="0"/>
                  <a:pt x="284" y="53"/>
                </a:cubicBezTo>
                <a:cubicBezTo>
                  <a:pt x="364" y="105"/>
                  <a:pt x="422" y="210"/>
                  <a:pt x="480" y="315"/>
                </a:cubicBezTo>
              </a:path>
            </a:pathLst>
          </a:custGeom>
          <a:noFill/>
          <a:ln w="19080">
            <a:solidFill>
              <a:srgbClr val="0a50a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37320" y="3557520"/>
            <a:ext cx="174600" cy="600120"/>
          </a:xfrm>
          <a:custGeom>
            <a:avLst/>
            <a:gdLst/>
            <a:ahLst/>
            <a:rect l="l" t="t" r="r" b="b"/>
            <a:pathLst>
              <a:path w="110" h="378">
                <a:moveTo>
                  <a:pt x="22" y="0"/>
                </a:moveTo>
                <a:cubicBezTo>
                  <a:pt x="11" y="110"/>
                  <a:pt x="0" y="220"/>
                  <a:pt x="15" y="283"/>
                </a:cubicBezTo>
                <a:cubicBezTo>
                  <a:pt x="29" y="346"/>
                  <a:pt x="69" y="362"/>
                  <a:pt x="110" y="378"/>
                </a:cubicBezTo>
              </a:path>
            </a:pathLst>
          </a:custGeom>
          <a:noFill/>
          <a:ln w="19080">
            <a:solidFill>
              <a:srgbClr val="fe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6840" y="3546360"/>
            <a:ext cx="1650960" cy="674640"/>
          </a:xfrm>
          <a:custGeom>
            <a:avLst/>
            <a:gdLst/>
            <a:ahLst/>
            <a:rect l="l" t="t" r="r" b="b"/>
            <a:pathLst>
              <a:path w="960" h="360">
                <a:moveTo>
                  <a:pt x="0" y="328"/>
                </a:moveTo>
                <a:cubicBezTo>
                  <a:pt x="280" y="344"/>
                  <a:pt x="560" y="360"/>
                  <a:pt x="720" y="306"/>
                </a:cubicBezTo>
                <a:cubicBezTo>
                  <a:pt x="879" y="251"/>
                  <a:pt x="919" y="125"/>
                  <a:pt x="960" y="0"/>
                </a:cubicBezTo>
              </a:path>
            </a:pathLst>
          </a:custGeom>
          <a:noFill/>
          <a:ln w="19080">
            <a:solidFill>
              <a:srgbClr val="fe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0080" y="3498840"/>
            <a:ext cx="727200" cy="530280"/>
          </a:xfrm>
          <a:custGeom>
            <a:avLst/>
            <a:gdLst/>
            <a:ahLst/>
            <a:rect l="l" t="t" r="r" b="b"/>
            <a:pathLst>
              <a:path w="284" h="254">
                <a:moveTo>
                  <a:pt x="0" y="254"/>
                </a:moveTo>
                <a:cubicBezTo>
                  <a:pt x="41" y="206"/>
                  <a:pt x="83" y="158"/>
                  <a:pt x="131" y="116"/>
                </a:cubicBezTo>
                <a:cubicBezTo>
                  <a:pt x="178" y="73"/>
                  <a:pt x="231" y="36"/>
                  <a:pt x="284" y="0"/>
                </a:cubicBezTo>
              </a:path>
            </a:pathLst>
          </a:custGeom>
          <a:noFill/>
          <a:ln w="19080">
            <a:solidFill>
              <a:srgbClr val="fe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26040" y="2344680"/>
            <a:ext cx="1593720" cy="854280"/>
          </a:xfrm>
          <a:custGeom>
            <a:avLst/>
            <a:gdLst/>
            <a:ahLst/>
            <a:rect l="l" t="t" r="r" b="b"/>
            <a:pathLst>
              <a:path w="1004" h="538">
                <a:moveTo>
                  <a:pt x="0" y="538"/>
                </a:moveTo>
                <a:cubicBezTo>
                  <a:pt x="108" y="481"/>
                  <a:pt x="487" y="285"/>
                  <a:pt x="655" y="196"/>
                </a:cubicBezTo>
                <a:cubicBezTo>
                  <a:pt x="822" y="106"/>
                  <a:pt x="931" y="40"/>
                  <a:pt x="1004" y="0"/>
                </a:cubicBezTo>
              </a:path>
            </a:pathLst>
          </a:custGeom>
          <a:noFill/>
          <a:ln w="19080">
            <a:solidFill>
              <a:srgbClr val="03bb7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8600" y="2495520"/>
            <a:ext cx="555840" cy="692280"/>
          </a:xfrm>
          <a:custGeom>
            <a:avLst/>
            <a:gdLst/>
            <a:ahLst/>
            <a:rect l="l" t="t" r="r" b="b"/>
            <a:pathLst>
              <a:path w="423" h="465">
                <a:moveTo>
                  <a:pt x="423" y="0"/>
                </a:moveTo>
                <a:cubicBezTo>
                  <a:pt x="382" y="37"/>
                  <a:pt x="237" y="175"/>
                  <a:pt x="182" y="225"/>
                </a:cubicBezTo>
                <a:cubicBezTo>
                  <a:pt x="126" y="274"/>
                  <a:pt x="117" y="258"/>
                  <a:pt x="87" y="298"/>
                </a:cubicBezTo>
                <a:cubicBezTo>
                  <a:pt x="56" y="337"/>
                  <a:pt x="18" y="430"/>
                  <a:pt x="0" y="465"/>
                </a:cubicBezTo>
              </a:path>
            </a:pathLst>
          </a:custGeom>
          <a:noFill/>
          <a:ln w="28440">
            <a:solidFill>
              <a:srgbClr val="0a50a1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59800" y="2031840"/>
            <a:ext cx="930240" cy="1155960"/>
          </a:xfrm>
          <a:custGeom>
            <a:avLst/>
            <a:gdLst/>
            <a:ahLst/>
            <a:rect l="l" t="t" r="r" b="b"/>
            <a:pathLst>
              <a:path w="637" h="707">
                <a:moveTo>
                  <a:pt x="0" y="131"/>
                </a:moveTo>
                <a:cubicBezTo>
                  <a:pt x="90" y="125"/>
                  <a:pt x="453" y="0"/>
                  <a:pt x="545" y="96"/>
                </a:cubicBezTo>
                <a:cubicBezTo>
                  <a:pt x="637" y="192"/>
                  <a:pt x="550" y="580"/>
                  <a:pt x="552" y="707"/>
                </a:cubicBezTo>
              </a:path>
            </a:pathLst>
          </a:custGeom>
          <a:noFill/>
          <a:ln w="28440">
            <a:solidFill>
              <a:srgbClr val="fe000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7447680" y="2469600"/>
            <a:ext cx="623880" cy="703080"/>
          </a:xfrm>
          <a:custGeom>
            <a:avLst/>
            <a:gdLst/>
            <a:ahLst/>
            <a:rect l="l" t="t" r="r" b="b"/>
            <a:pathLst>
              <a:path w="167" h="712">
                <a:moveTo>
                  <a:pt x="0" y="712"/>
                </a:moveTo>
                <a:cubicBezTo>
                  <a:pt x="51" y="506"/>
                  <a:pt x="103" y="300"/>
                  <a:pt x="131" y="182"/>
                </a:cubicBezTo>
                <a:cubicBezTo>
                  <a:pt x="158" y="63"/>
                  <a:pt x="162" y="31"/>
                  <a:pt x="167" y="0"/>
                </a:cubicBezTo>
              </a:path>
            </a:pathLst>
          </a:custGeom>
          <a:noFill/>
          <a:ln w="28440">
            <a:solidFill>
              <a:srgbClr val="fe000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0800" y="2506680"/>
            <a:ext cx="506160" cy="646200"/>
          </a:xfrm>
          <a:custGeom>
            <a:avLst/>
            <a:gdLst/>
            <a:ahLst/>
            <a:rect l="l" t="t" r="r" b="b"/>
            <a:pathLst>
              <a:path w="254" h="450">
                <a:moveTo>
                  <a:pt x="254" y="0"/>
                </a:moveTo>
                <a:cubicBezTo>
                  <a:pt x="238" y="37"/>
                  <a:pt x="201" y="157"/>
                  <a:pt x="159" y="232"/>
                </a:cubicBezTo>
                <a:cubicBezTo>
                  <a:pt x="116" y="307"/>
                  <a:pt x="33" y="404"/>
                  <a:pt x="0" y="450"/>
                </a:cubicBezTo>
              </a:path>
            </a:pathLst>
          </a:custGeom>
          <a:noFill/>
          <a:ln w="28440">
            <a:solidFill>
              <a:srgbClr val="0a50a1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5760" y="3979800"/>
            <a:ext cx="1549440" cy="44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11120" y="1852560"/>
            <a:ext cx="1500480" cy="43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6680" y="201600"/>
            <a:ext cx="5030280" cy="460440"/>
            <a:chOff x="166680" y="201600"/>
            <a:chExt cx="5030280" cy="460440"/>
          </a:xfrm>
        </p:grpSpPr>
        <p:sp>
          <p:nvSpPr>
            <p:cNvPr id="100" name=""/>
            <p:cNvSpPr/>
            <p:nvPr/>
          </p:nvSpPr>
          <p:spPr>
            <a:xfrm>
              <a:off x="1686600" y="239760"/>
              <a:ext cx="351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e Pair of Factors fo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66680" y="201600"/>
              <a:ext cx="153216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1028880"/>
            <a:ext cx="2762280" cy="41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8080" y="1897200"/>
            <a:ext cx="129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405320" y="2385720"/>
            <a:ext cx="781200" cy="190440"/>
            <a:chOff x="4405320" y="2385720"/>
            <a:chExt cx="781200" cy="190440"/>
          </a:xfrm>
        </p:grpSpPr>
        <p:sp>
          <p:nvSpPr>
            <p:cNvPr id="106" name=""/>
            <p:cNvSpPr/>
            <p:nvPr/>
          </p:nvSpPr>
          <p:spPr>
            <a:xfrm rot="16200000">
              <a:off x="4710240" y="2138040"/>
              <a:ext cx="75960" cy="685800"/>
            </a:xfrm>
            <a:prstGeom prst="rect">
              <a:avLst/>
            </a:prstGeom>
            <a:solidFill>
              <a:srgbClr val="ffc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5043600" y="2433240"/>
              <a:ext cx="190440" cy="9540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0"/>
                  </a:moveTo>
                  <a:lnTo>
                    <a:pt x="384" y="0"/>
                  </a:lnTo>
                  <a:lnTo>
                    <a:pt x="192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91480" y="189396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combinations of factors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408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0840" y="2286000"/>
            <a:ext cx="9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a50a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0840" y="2695680"/>
            <a:ext cx="9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e000a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41280" y="26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94160" y="2800080"/>
            <a:ext cx="781200" cy="190440"/>
            <a:chOff x="4394160" y="2800080"/>
            <a:chExt cx="781200" cy="190440"/>
          </a:xfrm>
        </p:grpSpPr>
        <p:sp>
          <p:nvSpPr>
            <p:cNvPr id="114" name=""/>
            <p:cNvSpPr/>
            <p:nvPr/>
          </p:nvSpPr>
          <p:spPr>
            <a:xfrm rot="16200000">
              <a:off x="4699080" y="2552400"/>
              <a:ext cx="75960" cy="685800"/>
            </a:xfrm>
            <a:prstGeom prst="rect">
              <a:avLst/>
            </a:prstGeom>
            <a:solidFill>
              <a:srgbClr val="ffc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5032440" y="2847600"/>
              <a:ext cx="190440" cy="9540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0"/>
                  </a:moveTo>
                  <a:lnTo>
                    <a:pt x="384" y="0"/>
                  </a:lnTo>
                  <a:lnTo>
                    <a:pt x="192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332880" y="3408480"/>
            <a:ext cx="28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e000a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6840" y="3979800"/>
            <a:ext cx="33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42320" y="3851280"/>
            <a:ext cx="18475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4006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5760" y="5324400"/>
            <a:ext cx="1131840" cy="45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237280"/>
            <a:ext cx="230328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2520" y="4805280"/>
            <a:ext cx="28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0" i="1" lang="en-US" sz="2000" spc="-1" strike="noStrike">
                <a:solidFill>
                  <a:srgbClr val="0a50a1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e000a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 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38640" y="5330880"/>
            <a:ext cx="3501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82760" y="4087800"/>
            <a:ext cx="3642120" cy="206640"/>
          </a:xfrm>
          <a:prstGeom prst="line">
            <a:avLst/>
          </a:prstGeom>
          <a:ln cap="rnd" w="19080">
            <a:solidFill>
              <a:srgbClr val="fe000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82400" y="4053960"/>
            <a:ext cx="3639600" cy="254880"/>
          </a:xfrm>
          <a:prstGeom prst="line">
            <a:avLst/>
          </a:prstGeom>
          <a:ln cap="rnd" w="19080">
            <a:solidFill>
              <a:srgbClr val="fe000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865920" y="5238720"/>
            <a:ext cx="1793880" cy="731880"/>
            <a:chOff x="6865920" y="5238720"/>
            <a:chExt cx="1793880" cy="731880"/>
          </a:xfrm>
        </p:grpSpPr>
        <p:sp>
          <p:nvSpPr>
            <p:cNvPr id="127" name=""/>
            <p:cNvSpPr/>
            <p:nvPr/>
          </p:nvSpPr>
          <p:spPr>
            <a:xfrm>
              <a:off x="7135920" y="5238720"/>
              <a:ext cx="152388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6865920" y="5336640"/>
              <a:ext cx="1231920" cy="419400"/>
            </a:xfrm>
            <a:prstGeom prst="rightArrow">
              <a:avLst>
                <a:gd name="adj1" fmla="val 50000"/>
                <a:gd name="adj2" fmla="val 7343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ad6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205040" y="53514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25680" y="3371760"/>
            <a:ext cx="5461200" cy="102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076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439560" y="5362560"/>
            <a:ext cx="8307720" cy="974880"/>
            <a:chOff x="439560" y="5362560"/>
            <a:chExt cx="8307720" cy="974880"/>
          </a:xfrm>
        </p:grpSpPr>
        <p:sp>
          <p:nvSpPr>
            <p:cNvPr id="134" name=""/>
            <p:cNvSpPr/>
            <p:nvPr/>
          </p:nvSpPr>
          <p:spPr>
            <a:xfrm>
              <a:off x="439560" y="5638680"/>
              <a:ext cx="7955280" cy="397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fdd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37600" y="5362560"/>
              <a:ext cx="1309680" cy="9748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76640" y="1555920"/>
            <a:ext cx="4790880" cy="44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6680" y="201600"/>
            <a:ext cx="5232960" cy="460440"/>
            <a:chOff x="166680" y="201600"/>
            <a:chExt cx="5232960" cy="460440"/>
          </a:xfrm>
        </p:grpSpPr>
        <p:sp>
          <p:nvSpPr>
            <p:cNvPr id="138" name=""/>
            <p:cNvSpPr/>
            <p:nvPr/>
          </p:nvSpPr>
          <p:spPr>
            <a:xfrm>
              <a:off x="1684800" y="23976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Common Factor for a, b, and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66680" y="201600"/>
              <a:ext cx="153108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7524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360" y="838080"/>
            <a:ext cx="2651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1560600"/>
            <a:ext cx="1495440" cy="43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360" y="15937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5440" y="2144880"/>
            <a:ext cx="1496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24120" y="22003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45200" y="2198520"/>
            <a:ext cx="16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(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781360"/>
            <a:ext cx="6383520" cy="459720"/>
          </a:xfrm>
          <a:prstGeom prst="rect">
            <a:avLst/>
          </a:prstGeom>
          <a:noFill/>
          <a:ln w="9360">
            <a:solidFill>
              <a:srgbClr val="fe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factor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4 by testing possible fa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920" y="56386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1)(–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1920" y="510372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–4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1920" y="403380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–2)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920" y="45687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2)(–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73880" y="56386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)(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4) =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72800" y="5057640"/>
            <a:ext cx="32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4)(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1) =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1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73160" y="4033800"/>
            <a:ext cx="31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2)(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2) =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73880" y="45687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)(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2) =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360" y="3502080"/>
            <a:ext cx="2703600" cy="406440"/>
          </a:xfrm>
          <a:prstGeom prst="rect">
            <a:avLst/>
          </a:prstGeom>
          <a:noFill/>
          <a:ln w="9360">
            <a:solidFill>
              <a:srgbClr val="ffc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ORS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4280" y="3502080"/>
            <a:ext cx="3016080" cy="376200"/>
          </a:xfrm>
          <a:prstGeom prst="rect">
            <a:avLst/>
          </a:prstGeom>
          <a:noFill/>
          <a:ln w="9360">
            <a:solidFill>
              <a:srgbClr val="ffc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32840" y="3502080"/>
            <a:ext cx="1454040" cy="376200"/>
          </a:xfrm>
          <a:prstGeom prst="rect">
            <a:avLst/>
          </a:prstGeom>
          <a:noFill/>
          <a:ln w="9360">
            <a:solidFill>
              <a:srgbClr val="ffc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REC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54480" y="510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54480" y="40338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54480" y="4568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000a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70080" y="1469880"/>
            <a:ext cx="5022720" cy="6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00400" y="160020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by factoring out the common factor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4200" y="5594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bb7e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9825120" cy="5622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89520" y="1020600"/>
            <a:ext cx="6060960" cy="4446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21080" y="3546360"/>
            <a:ext cx="372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factor, you can stop testing once you find the correct factor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21080" y="1951200"/>
            <a:ext cx="45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ct factorizat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8 = 2(x + 1)(3x –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324000" y="1133640"/>
            <a:ext cx="2627640" cy="2468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179880" y="4759200"/>
            <a:ext cx="1154160" cy="1417680"/>
            <a:chOff x="3179880" y="4759200"/>
            <a:chExt cx="1154160" cy="1417680"/>
          </a:xfrm>
        </p:grpSpPr>
        <p:sp>
          <p:nvSpPr>
            <p:cNvPr id="171" name=""/>
            <p:cNvSpPr/>
            <p:nvPr/>
          </p:nvSpPr>
          <p:spPr>
            <a:xfrm>
              <a:off x="3730680" y="4759200"/>
              <a:ext cx="603360" cy="48600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79880" y="5691240"/>
              <a:ext cx="603000" cy="48564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168280" y="3448080"/>
            <a:ext cx="214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 – 1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100" spc="-1" strike="noStrike">
                <a:solidFill>
                  <a:srgbClr val="fe000a"/>
                </a:solidFill>
                <a:latin typeface="Times New Roman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100" spc="-1" strike="noStrike">
                <a:solidFill>
                  <a:srgbClr val="000099"/>
                </a:solidFill>
                <a:latin typeface="Times New Roman"/>
              </a:rPr>
              <a:t> 4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859120"/>
            <a:ext cx="2158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fe000a"/>
                </a:solidFill>
                <a:latin typeface="Times New Roman"/>
              </a:rPr>
              <a:t>v</a:t>
            </a:r>
            <a:r>
              <a:rPr b="1" i="1" lang="en-US" sz="800" spc="-1" strike="noStrike">
                <a:solidFill>
                  <a:srgbClr val="fe000a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408640" y="3389400"/>
            <a:ext cx="34639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3400" y="2325600"/>
            <a:ext cx="53100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70120" y="1116000"/>
            <a:ext cx="6993000" cy="105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82760" y="119160"/>
            <a:ext cx="692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V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ADRATI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TIONS B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12760" y="131760"/>
            <a:ext cx="1096920" cy="433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96880" y="527040"/>
            <a:ext cx="7290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040" y="576360"/>
            <a:ext cx="4393080" cy="460440"/>
            <a:chOff x="365040" y="576360"/>
            <a:chExt cx="4393080" cy="460440"/>
          </a:xfrm>
        </p:grpSpPr>
        <p:sp>
          <p:nvSpPr>
            <p:cNvPr id="183" name=""/>
            <p:cNvSpPr/>
            <p:nvPr/>
          </p:nvSpPr>
          <p:spPr>
            <a:xfrm>
              <a:off x="1741320" y="61308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 Quadrat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365040" y="576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852560" y="968400"/>
            <a:ext cx="69087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06840" y="1177920"/>
            <a:ext cx="6663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A cliff diver jumps from a ledge 48 feet above the ocean with an </a:t>
            </a:r>
            <a:br>
              <a:rPr sz="1800"/>
            </a:b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initial upward velocity of 8 feet per second. How long will it take</a:t>
            </a:r>
            <a:br>
              <a:rPr sz="1800"/>
            </a:b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until the diver enters the water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8040" y="2325600"/>
            <a:ext cx="15462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89200" y="233676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95520" y="2259000"/>
            <a:ext cx="54025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08640" y="2879640"/>
            <a:ext cx="33354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08640" y="2792520"/>
            <a:ext cx="34639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08280" y="290664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Vertical mo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8640" y="3456000"/>
            <a:ext cx="33354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07920" y="346536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stitute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687680" y="2290680"/>
            <a:ext cx="7132320" cy="1714680"/>
            <a:chOff x="1687680" y="2290680"/>
            <a:chExt cx="7132320" cy="1714680"/>
          </a:xfrm>
        </p:grpSpPr>
        <p:sp>
          <p:nvSpPr>
            <p:cNvPr id="196" name=""/>
            <p:cNvSpPr/>
            <p:nvPr/>
          </p:nvSpPr>
          <p:spPr>
            <a:xfrm>
              <a:off x="3406680" y="2290680"/>
              <a:ext cx="5413320" cy="171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87680" y="2835360"/>
              <a:ext cx="3913200" cy="11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404880" y="2351160"/>
            <a:ext cx="52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vertical motion model. 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8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51320" y="2322360"/>
            <a:ext cx="5310000" cy="79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71760" y="2254320"/>
            <a:ext cx="545940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8360" y="2360520"/>
            <a:ext cx="45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diver enters the water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 Solve the resulting equation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08640" y="3186000"/>
            <a:ext cx="33354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08640" y="3132000"/>
            <a:ext cx="346392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06480" y="319104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quadratic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00880" y="3178080"/>
            <a:ext cx="2342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 = – 1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+ 4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08640" y="3624120"/>
            <a:ext cx="33354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8640" y="3570120"/>
            <a:ext cx="346392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07200" y="36273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Factor out </a:t>
            </a:r>
            <a:r>
              <a:rPr b="0" lang="en-US" sz="2000" spc="-1" strike="noStrike">
                <a:solidFill>
                  <a:srgbClr val="fe000a"/>
                </a:solidFill>
                <a:latin typeface="Arial"/>
              </a:rPr>
              <a:t>– 8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01960" y="3624120"/>
            <a:ext cx="239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 = (</a:t>
            </a:r>
            <a:r>
              <a:rPr b="0" lang="en-US" sz="2100" spc="-1" strike="noStrike">
                <a:solidFill>
                  <a:srgbClr val="fe000a"/>
                </a:solidFill>
                <a:latin typeface="Times New Roman"/>
              </a:rPr>
              <a:t>– 8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– 6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08640" y="4106880"/>
            <a:ext cx="3335400" cy="409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8640" y="4052880"/>
            <a:ext cx="34639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8640" y="41194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091040"/>
            <a:ext cx="2648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 = (– 8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024280" y="4662360"/>
            <a:ext cx="3243960" cy="734040"/>
            <a:chOff x="2024280" y="4662360"/>
            <a:chExt cx="3243960" cy="734040"/>
          </a:xfrm>
        </p:grpSpPr>
        <p:sp>
          <p:nvSpPr>
            <p:cNvPr id="215" name=""/>
            <p:cNvSpPr/>
            <p:nvPr/>
          </p:nvSpPr>
          <p:spPr>
            <a:xfrm>
              <a:off x="2024280" y="4795560"/>
              <a:ext cx="3243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olutions are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493520" y="4662360"/>
              <a:ext cx="550080" cy="734040"/>
              <a:chOff x="4493520" y="4662360"/>
              <a:chExt cx="550080" cy="7340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4728600" y="4662360"/>
                <a:ext cx="315000" cy="734040"/>
                <a:chOff x="4728600" y="4662360"/>
                <a:chExt cx="315000" cy="734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728600" y="4662360"/>
                  <a:ext cx="315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781520" y="5025600"/>
                  <a:ext cx="19368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93520" y="4801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2038320" y="5413320"/>
            <a:ext cx="638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 values do not make sense, so the only reasonable solution is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t will take the diver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co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469800" y="1074600"/>
            <a:ext cx="220032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8:44:05Z</dcterms:created>
  <dc:creator>McDougal Littell</dc:creator>
  <dc:description/>
  <dc:language>en-US</dc:language>
  <cp:lastModifiedBy>y2k2pc</cp:lastModifiedBy>
  <dcterms:modified xsi:type="dcterms:W3CDTF">2000-04-03T19:10:34Z</dcterms:modified>
  <cp:revision>32</cp:revision>
  <dc:subject/>
  <dc:title>No Slide Title</dc:title>
</cp:coreProperties>
</file>